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F13-5DFE-4519-93C3-74B7304A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145-F22D-4DA6-AC85-75B9C96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E2B-BF6C-42AD-AE69-75F2D9E7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3BB-CBFA-4215-ADC0-250F5867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5EFA-6E84-4A15-9984-F077C4A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5481-7C1A-45AB-B94E-06A9C8A3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EA9-D03C-4BAF-BB5C-8DE73FF9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DF2-2394-4F93-88FE-588A14C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FA5B-8E99-4A6D-929D-D30C313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9A2-13DE-4BDB-AB52-5E2708F6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698-D79D-4218-92FD-E7188CE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09C-B425-4213-B627-D2D331D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FAF-F210-4FE7-9D88-A0A4C72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A56-6BC1-4C96-A4A0-0AB767C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EE59-0179-4B15-A8DE-E69A8B6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68C-57C0-4B9A-BD22-16CC3F9B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4AFC-729B-43FB-9F61-FA936F91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BA9F-E104-4F44-89F4-A81D9C1D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7EA7-9A6D-4DFA-8E26-B0C7F41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FED2-E616-435A-B5B7-AD44A016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01F1-2ED5-4CCA-BDF9-D5F052E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F8C8-EA82-4327-905B-DF57D96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0D7-8F26-42F5-B4E1-5DCCF624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1038-000B-49B9-BFA8-939A030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47E3-8510-4F79-9CDB-71EFEA4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B8F1-1BF2-4AE5-82DC-9EDD81D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A706-086F-4F0D-A3BB-7E350F9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6501-D258-4D6D-A1A3-37B7832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ACE4-C9DC-4CC3-9379-72221A51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6C01-3A3C-4809-BA13-E3B891EE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51F-DE69-4BD1-9616-773A769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86E-C737-496F-ACD3-DB228794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99B-DA2F-4231-A30D-61DE2B60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716-05D6-4F50-9894-3C4EFDE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188-2669-4AE6-A81F-7981068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8E0-2977-4D71-B2D8-0DD06DC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0CAC-79FF-4621-B714-12D9B8C2CD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CC5-4A45-4C77-A8CD-C29A2F50FC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2E5-18D0-4FD7-AF46-E2C008E73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Forc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 that opposes motion between two surfaces that are touching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crow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where surface bumpers stick together, are the source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ypes of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 between two surfaces that are not moving past each other i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ce that opposes the motion of two surfaces sliding past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ction between a rolling object and the surface it rolls on i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lling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s the motion of objects that move 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air resistance depends on an object's shape, size and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 on a falling object are balanced and the object falls with constant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hat three variables does Newton’s second law of motion connect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2: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ink About It!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different about throwing a ball horizontally as hard as you can and tossing it gent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throw hard, you exert a much greater force on the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24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ink About It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-thrown ball has a greater change in velocity, and the change occurs over a shorter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24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cceleration is the change in velocity divided by the time it takes for the change to occu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a hard-thrown ball has a greater acceleration than a gently thrown ball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throw a softball and a baseball as hard as you can, why don’t they have the same speed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is due to their m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takes the same amount of time to throw both balls, the softball would have les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ion of an object depends on its mass as well as the force exerted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, mass, and acceleration are relat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1: Newton’s Second 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’s first law of mo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in motion stays in motion and an object at rest stays at rest unless acted upon by an outside unbalanced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rtia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Newton’s Second 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ewton’s second law of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that the acceleration of an object is in the same direction as the net force on the object, and that the acceleration can be calculated from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9692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alculating Net Force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ith the Second Law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’s second law also can be used to calculate the net force if mass and acceleration are know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the equation for Newton’s second law must be solved for the net for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alculating Net Force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with the Second Law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for the net force, multiply both sides of the equation by the mas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n the left side cancels, giving the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62440" y="2924280"/>
            <a:ext cx="3219120" cy="103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390840" y="5210280"/>
            <a:ext cx="2362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you give a skateboard a push with your han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Newton’s first law of motion, if the net force acting on a moving object is zero, it will continue to move in a straight line with constant spe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skateboard keep moving with constant speed after it leaves your hand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when an object slows down it is accelerating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second law, if the skateboard is accelerating, there must be a net force acting on i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797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ce that slows the skateboard and brings it to a stop is fri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orce that opposes the sliding motion of two surfaces that are touching each 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friction between two surfaces depends on two factor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ds of surfaces and the force pressing the surfaces toge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Causes Friction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urfaces are in contact, welding or sticking occurs where the bumps touch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icrowelds are the source of fr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icking Togeth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force pushing the two surfaces together is, the stronger these microwelds will be, because more of the surface bumps will come into cont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4546440" cy="2295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62720" y="3657600"/>
            <a:ext cx="32763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ove one surface over the other, a force must be applied to break the microweld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you have filled a cardboard box with books and want to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876920" y="289548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oo heavy to lift, so you start pushing on it, but it doesn’t budg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5029200"/>
            <a:ext cx="3962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box doesn’t move, then it has zero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, Mass and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nd motion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will have greater acceleration if a greater force is appli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s of an object and the force applied to it affec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Newton’s second law, if the acceleration is zero, then the net force on the box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force that cancels your push must be acting on the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tatic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force is the friction due to the microwelds that have formed between the bottom of the box and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tatic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frictional force that prevents two surfaces from sliding past each oth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lid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ing together, the box moves.  Together you and your friend have exerted enough force to break the microwelds between the floor and the bottom of the bo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71680" y="2328840"/>
            <a:ext cx="38080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lid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top pushing, the box quickly comes to a sto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as the box slides across the floor, another forc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es the motion of the box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liding f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orce that opposes the motion of two surfaces sliding past each 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ll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wheel rolls over a surface, the wheel digs into the surface, causing both the wheel and the surface to be deform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648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lling Fri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friction acts over the deformed area where the wheel and surface are in contact, producing a frictional force called rolling fr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ing friction is the frictional force between a rolling object and the surface it rolls 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object falls toward Earth, it is pulled downward by the force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 friction-like force called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ir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poses the motion of objects   that move through the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 causes objects to fall with different accelerations and different sp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 acts in the opposite direction  to the motion of an object through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object is falling downward, air resistance acts upward on the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ze of the air resistance force also depends on the size and shape of an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ir Resistan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air resistance on an object depends on the speed, size, and shape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resistance, not the object’s mass, is why feathers, leaves, and pieces of paper fall more slowly than pennies, acorns, and appl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object falls, the downward force of gravity causes the object to accel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s an object falls faster, the upward force of air resistance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s the net force on a sky diver to decrease as the sky diver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919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Newton’s Second Law of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celeration of an object is in the same direction as the net force on the object, and that the acceleration can be calculated from the following equ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=force 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=mass (k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acceleration (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the upward air resistance force becomes large enough to balance the downward force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the net force on the object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acceleration of the object is also zero, and the object falls with a constant speed called the terminal veloc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erminal Velo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 velocity is the highest speed a falling object will reac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inal velocity depends on the size, shape, and mass of a falling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tion 3.2: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 attractive force between any two objects that depends on the masses of the objects and the distance between them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3203640"/>
            <a:ext cx="3200400" cy="2635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343400" y="3211560"/>
            <a:ext cx="4267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– A Basic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y is one of the four basic forc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basic forces are the electromagnetic force, the strong nuclear force, and the weak nuclear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Law of Universal Gravit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aw can be written as the following equa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25600" y="3809880"/>
            <a:ext cx="62928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 called the universal gravitational constant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distance between the two mass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of universal gravitation enables the force of gravity to be calculated between any two objects if their masses and the distance between them is know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Range of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law of universal gravitation, the gravitational force between two masses decreases rapidly as the distance between the masses incr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Range of Grav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how far apart two objects are, the gravitational force between them never completely goes to zero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gravitational force between two objects never disappears, gravity is called a long-range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arth’s Gravitational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ll forces except gravity acting on a falling object can be ignored, the object is said to be in free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o Earth’s surface, the acceleration of a falling object in free fall is about 9.8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cceleration is given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s sometimes called the acceleration of grav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arth’s Gravitational Accel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second law of motion, the force of Earth’s gravity on a falling object is the object’s mass times the acceleration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540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vitational force exerted on an object is called the object’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weight of an object on Earth is equal to the force of Earth’s gravity on the object, weight can be calculated from this eq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55818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 and Ma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nd mass are not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is a force and mass is a measure of the amount of matter an object cont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and mass are related.  Weight increases as mass incr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 and Ma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an object usually is the gravitational force between the object and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ght of an object can change, depending on the gravitational force on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eightlessness and Free Fal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law of universal gravitation, at 400-km altitude the force of Earth’s gravity is about 90 percent as strong as it is at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an astronaut with a mass of 80 kg still would weigh about 700 N in orbit, compared with a weight of about 780 N at Earth’s surfa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nd on a scale you are at rest and the net force on you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ale supports you and balances your weight by exerting an upward forc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l on the scale shows the upward force exerted by the scale, which is your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suppose you stand on the scale in an elevator that is fal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nd the scale were in free fall, then you no longer would push down on the scale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ale dial would say you have zero weight, even though the force of gravity on you hasn’t change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loating in Spa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ace shuttle in orbit is in free fall, but it is falling around Earth, rather than straight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n the orbiting space shuttle is falling around Earth at the same rate, in the same way you and the scale were falling in the elevato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in the shuttle seem to be floating because they are all falling with the same accele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jectile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’ve tossed a ball to someone, you’ve probably noticed that thrown objects don’t always travel in straight lines.  They curve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gravity causes projectiles to follow a curved pa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throw a ball, the force exerted by your hand pushes the ball for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orce gives the ball horizontal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orce accelerates it forward, so its horizontal velocity is constant, if you ignore ai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hen you let go of the ball, gravity can pull it downward, giving it vertical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ll has constant horizontal velocity but increasing vertical velocit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: Page 834 #25, 26, 27, 28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vity exerts an unbalanced force on the ball, changing the direction of its path from only forward to forward and downwar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these two motions is that the ball appears to travel in a curv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hrow a ball as hard as you could from shoulder height in a perfectly horizontal direction, would it take longer to reach the ground than if you dropped a ball from the same he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izontal and Vertical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prisingly, it wouldn’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alls travel the same vertical distance in the same amount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ion toward the center of a curved or circular path is call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entripetal accele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second law of motion, when a ball has centripetal acceleration, the direction of the net force on the ball also must be toward the center of the curved pa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force exerted toward the center of a curved path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entripetal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ntripetal Force and Tra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ar rounds a curve on a highway, a centripetal force must be acting on the car to keep it moving in a curved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entripetal force is the frictional force, or the traction, between the tires and the road su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moves in a circle is doing so because a centripetal force is accelerating it toward the cent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can be a 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irling an object tied to a string above your h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ing exerts a centripetal force on the object that keeps it moving in a circular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ity Can be a Centripetal For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ame way, Earth’s gravity exerts a centripetal force on the Moon that keeps it moving in a nearly circular orbi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5079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ection 3.3: The Third Law of Mo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ewton’s third law of mo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ribes action-reaction pairs this way. When one object exerts a force on a second object, the second one exerts a force on the first that is equal in strength and opposite in direction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5" dur="1797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ction and Rea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orce is applied in nature, a reaction force occur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jump on a trampoline, for example, you exert a downward force on the trampo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ly, the trampoline exerts an equal force upward, sending you high into the ai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ction and Reaction forces don’t cancel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the third law of motion, action and reaction forces act on differen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ven though the forces are equal, they are not balanced because they act on different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cket Propul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rocket engine, burning fuel produces hot gases.  The rocket engine exerts a force on these gases and causes them to escape out the back of the ro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Newton’s third law, the gases exert a force on the rocket and push it forwa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ving object has a property called momentum that is related to how much force is needed to change its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object is the product of its mass and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ment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 is given the symbo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an   be calculated with the following equ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= 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for momentum is kg · m/s or g · m/s.  Notice that momentum has a direction because velocity has a dire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 and Changing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cceleration is the difference between the initial and final velocity, divided by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from Newton’s second law, the net force on an object equals its mass times its accelera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ce and Changing Mo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ombining these two relationships, Newton’s second law can be written in this wa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nal momentum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nitial momen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317520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Law of Conservation of Momentu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mentum of an object doesn’t change unless its mass, velocity, or both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entum, however, can be transferred from one object to another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of conservation of momentum states that if a group of objects exerts forces only on each other, their total momentum doesn’t chang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en Objects Col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s of a collision depend on the momentum of each objec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first puck hits the second puck from behind, it gives the second puck momentum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48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en Objects Col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ucks are speeding toward each other with the same speed, the total momentum is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648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6:13:39Z</dcterms:created>
  <dc:creator>IT Department</dc:creator>
  <dc:description/>
  <dc:language>en-US</dc:language>
  <cp:lastModifiedBy>IT Department</cp:lastModifiedBy>
  <dcterms:modified xsi:type="dcterms:W3CDTF">2009-04-20T15:21:35Z</dcterms:modified>
  <cp:revision>18</cp:revision>
  <dc:subject/>
  <dc:title>Force</dc:title>
</cp:coreProperties>
</file>